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8FF-2D17-4F5D-B047-06422546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CFE-EEFD-472F-B1C7-F0EEBAAE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303-4695-4206-8FA0-C1DDF244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E88-551E-4D31-AA76-8B35ED96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E277-63F3-4AF8-ACC1-1501AC19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97BF-8EE7-464A-99B2-B9422E7F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033F-3E6D-42A8-9BDE-0195400C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E6B0-410A-4E61-9916-87C9FB2A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8E52-8404-4337-8139-9CF69EEB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7EB1-5557-4DBA-97F6-891BA445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54F4-A35F-4ECE-9ADC-9079029B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D93-60A2-432F-98DE-C18FFFF3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D050-809F-4344-A370-62685CC9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92CE-B5B1-4E6B-BFC0-17F62D3C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D8D6-B298-4F0A-A42D-EFF8D170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BD98-6E5B-4BAD-A459-8722162C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1403-44A5-4319-AA92-720FA862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294-F5E7-4825-A344-EA4CE636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AB91-037E-42E2-8E0A-C3F9427B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388-00DC-45EC-B836-DA8B0953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0F2-B90C-42A6-9F47-160C7788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FC2-CD16-4CEA-A909-3781543F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F28-96B0-4571-AEA9-7EAD3FAC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1F1-4876-44AF-8D57-926F7D2F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F6E4-64FD-4306-8714-1CE1DDBDC8EF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3F36-18F1-4A67-B793-7EBE0E4BDA2D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Lucida Grande"/>
              </a:rPr>
              <a:t>Windows Movie Maker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/6-12/Session 2 of 3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shop Titl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27560" y="24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Students will share the following aspects of their project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Explain how the choices you have made regarding the title animations, fonts, and transitions have enhanced your movi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have seen how the choices we make as editors can effect the story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have observed how title sequences, and transitions can add to or subtract from the overall impact of a movi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we customize our movie using titles, transitions, and video effect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do we import digital images into </a:t>
            </a: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Windows Movie Maker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ook and feel of our movie can be affected by the title sequence and transitions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s lesson will focus on the following skills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opening and closing title sequence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mporting digital still images into Movie Mak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dding transitions between scene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are possible sources of digital image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digital camer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line download (www.pics4learning.org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canning a digital picture into the computer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titles and transitions enhance a movie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day’s skill will focus on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mporting digital pictures into Movie Mak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a title sequen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transition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(see the tutorial for lesson 2 for specific direction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Take the next 30 minutes to import still images into Movie Maker. Add titles and transitions to your movies. After 30 minutes we will come back together and shar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2164"/>
                </a:solidFill>
                <a:latin typeface="Lucida Grande"/>
              </a:rPr>
              <a:t>Participant Activity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Connect the digital still camera to the computer (if available)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Download and save the sample digital pictures. (web)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Import digital pictures into Movie Maker and include two pictures in your movi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Add titles and transitions to your movi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599"/>
              </a:spcAft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Save your Movie Maker project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2:24:10Z</dcterms:created>
  <dc:creator>NYCD DOE</dc:creator>
  <dc:description/>
  <dc:language>en-US</dc:language>
  <cp:lastModifiedBy>NYCD DOE</cp:lastModifiedBy>
  <dcterms:modified xsi:type="dcterms:W3CDTF">2007-03-11T19:19:53Z</dcterms:modified>
  <cp:revision>34</cp:revision>
  <dc:subject/>
  <dc:title>Workshop Title</dc:title>
</cp:coreProperties>
</file>